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C4E3E-508D-409D-901E-F259A29F7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D62F-F5CD-4552-982A-991720D7C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45DFC-B15A-4847-9814-EE5F1015B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5777D-0948-476B-810B-3683A3E8A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1942-6EAA-47D6-8881-7AF66EAF8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AEE0-C40A-4837-9D04-44EE8093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FF8A3-7BBF-4F11-9E7C-331B27EA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6043-27F1-4B6B-BD6B-6CF7457F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E53D-EFE3-4BB5-A803-1616B038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4FF8-31C2-42A8-9617-0C5E632CD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3744-8A33-4D45-862B-0F6F6B3C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6462D-BDE1-4C4D-864F-B78DE18F6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E303-1EBA-4505-BA0E-FBDA07389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3760" y="711000"/>
            <a:ext cx="8442360" cy="1212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tes from "The Stree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5181120"/>
            <a:ext cx="6608880" cy="1303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bservations, and Instruction Pacing</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by Melissa Yip</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759120" y="1523880"/>
            <a:ext cx="2527560" cy="302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Non-Negotiables    </a:t>
            </a:r>
            <a:endParaRPr b="0" lang="en-US" sz="4300" spc="-1" strike="noStrike">
              <a:solidFill>
                <a:srgbClr val="000000"/>
              </a:solidFill>
              <a:latin typeface="Times New Roman"/>
            </a:endParaRPr>
          </a:p>
        </p:txBody>
      </p:sp>
      <p:sp>
        <p:nvSpPr>
          <p:cNvPr id="63" name="PlaceHolder 2"/>
          <p:cNvSpPr>
            <a:spLocks noGrp="1"/>
          </p:cNvSpPr>
          <p:nvPr>
            <p:ph/>
          </p:nvPr>
        </p:nvSpPr>
        <p:spPr>
          <a:xfrm>
            <a:off x="146160" y="1523880"/>
            <a:ext cx="9671040" cy="54914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ts take another look at the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 the flexibility of Small Group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are not implementing the Language Arts por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ess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st grade observation    </a:t>
            </a:r>
            <a:endParaRPr b="0" lang="en-US" sz="4300" spc="-1" strike="noStrike">
              <a:solidFill>
                <a:srgbClr val="000000"/>
              </a:solidFill>
              <a:latin typeface="Times New Roman"/>
            </a:endParaRPr>
          </a:p>
        </p:txBody>
      </p:sp>
      <p:sp>
        <p:nvSpPr>
          <p:cNvPr id="65" name="PlaceHolder 2"/>
          <p:cNvSpPr>
            <a:spLocks noGrp="1"/>
          </p:cNvSpPr>
          <p:nvPr>
            <p:ph/>
          </p:nvPr>
        </p:nvSpPr>
        <p:spPr>
          <a:xfrm>
            <a:off x="146160" y="1093320"/>
            <a:ext cx="9642240" cy="5915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00-9:20   Whole group instruc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cept Video Talk</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al Vocab pictu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azing words song with Big Book (listened tw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 sound with picture and poe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lending with 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20-10:10  Centers/Small group time started at 9:45</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enters are assigned on board in front using pictures and student na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exible use of RS material and teacher material for cen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ed Readers during small group time are both RS and Book Room boo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10-10:30  Whole Group</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1st Grade observation notes:</a:t>
            </a:r>
            <a:endParaRPr b="0" lang="en-US" sz="4300" spc="-1" strike="noStrike">
              <a:solidFill>
                <a:srgbClr val="000000"/>
              </a:solidFill>
              <a:latin typeface="Times New Roman"/>
            </a:endParaRPr>
          </a:p>
        </p:txBody>
      </p:sp>
      <p:sp>
        <p:nvSpPr>
          <p:cNvPr id="67" name="PlaceHolder 2"/>
          <p:cNvSpPr>
            <a:spLocks noGrp="1"/>
          </p:cNvSpPr>
          <p:nvPr>
            <p:ph/>
          </p:nvPr>
        </p:nvSpPr>
        <p:spPr>
          <a:xfrm>
            <a:off x="146160" y="1320480"/>
            <a:ext cx="9671040" cy="5862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ment of instruction:  </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or coded SmartBoard/PowerPoint lessons (color coded from lesson plan book- Red= Get Ready to Read, Blue=Read and Comprehen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sure to hit Big 5 each tim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oks can be used more easily on SuccessNet with audi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sessmen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weekly for pract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each un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line was optiona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4160" y="311040"/>
            <a:ext cx="9671040" cy="1255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utline from K instruction in Other District </a:t>
            </a:r>
            <a:r>
              <a:rPr b="0" lang="en-US" sz="2400" spc="-1" strike="noStrike">
                <a:solidFill>
                  <a:srgbClr val="000000"/>
                </a:solidFill>
                <a:latin typeface="Arial"/>
              </a:rPr>
              <a:t> (by T. Zeman)  </a:t>
            </a:r>
            <a:endParaRPr b="0" lang="en-US" sz="2400" spc="-1" strike="noStrike">
              <a:solidFill>
                <a:srgbClr val="000000"/>
              </a:solidFill>
              <a:latin typeface="Times New Roman"/>
            </a:endParaRPr>
          </a:p>
        </p:txBody>
      </p:sp>
      <p:sp>
        <p:nvSpPr>
          <p:cNvPr id="69" name="PlaceHolder 2"/>
          <p:cNvSpPr>
            <a:spLocks noGrp="1"/>
          </p:cNvSpPr>
          <p:nvPr>
            <p:ph/>
          </p:nvPr>
        </p:nvSpPr>
        <p:spPr>
          <a:xfrm>
            <a:off x="221760" y="1726920"/>
            <a:ext cx="9518760" cy="6321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quot;Arial Black&quot;"/>
              </a:rPr>
              <a:t> </a:t>
            </a:r>
            <a:r>
              <a:rPr b="0" lang="en-US" sz="2100" spc="-1" strike="noStrike">
                <a:solidFill>
                  <a:srgbClr val="000000"/>
                </a:solidFill>
                <a:latin typeface="&quot;Arial Black&quot;"/>
              </a:rPr>
              <a:t>Day 1:</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Concept Talk and Oral Vocabulary</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exampl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Listen Up Stat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Word Work Stat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Independent Reading</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Teacher guided station (phonemic awareness/phonics/decodable storie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quot;Times New Roman&quot;"/>
              </a:rPr>
              <a:t>          </a:t>
            </a:r>
            <a:r>
              <a:rPr b="0" lang="en-US" sz="2100" spc="-1" strike="noStrike">
                <a:solidFill>
                  <a:srgbClr val="000000"/>
                </a:solidFill>
                <a:latin typeface="Arial"/>
              </a:rPr>
              <a:t>Your choice or Reader’s and Writer’s Notebook</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Phonemic Awareness and Phonic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same as abov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0 minutes           </a:t>
            </a:r>
            <a:r>
              <a:rPr b="1" lang="en-US" sz="2100" spc="-1" strike="noStrike">
                <a:solidFill>
                  <a:srgbClr val="000000"/>
                </a:solidFill>
                <a:latin typeface="Arial"/>
              </a:rPr>
              <a:t>Handwriting and High Frequency Word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Practice Stations (same as abov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minutes             </a:t>
            </a:r>
            <a:r>
              <a:rPr b="1" lang="en-US" sz="2100" spc="-1" strike="noStrike">
                <a:solidFill>
                  <a:srgbClr val="000000"/>
                </a:solidFill>
                <a:latin typeface="Arial"/>
              </a:rPr>
              <a:t>Listening Comprehensi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0 minuntes </a:t>
            </a:r>
            <a:r>
              <a:rPr b="1" lang="en-US" sz="2100" spc="-1" strike="noStrike">
                <a:solidFill>
                  <a:srgbClr val="000000"/>
                </a:solidFill>
                <a:latin typeface="Arial"/>
              </a:rPr>
              <a:t>          </a:t>
            </a:r>
            <a:r>
              <a:rPr b="1" lang="en-US" sz="2100" spc="-1" strike="noStrike">
                <a:solidFill>
                  <a:srgbClr val="ffffff"/>
                </a:solidFill>
                <a:latin typeface="Arial"/>
              </a:rPr>
              <a:t>Conventions and Writing  (not implemented in EL)</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1" name="PlaceHolder 2"/>
          <p:cNvSpPr>
            <a:spLocks noGrp="1"/>
          </p:cNvSpPr>
          <p:nvPr>
            <p:ph/>
          </p:nvPr>
        </p:nvSpPr>
        <p:spPr>
          <a:xfrm>
            <a:off x="146160" y="304920"/>
            <a:ext cx="9601200" cy="6835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quot;Arial Black&quot;"/>
              </a:rPr>
              <a:t>Day 2:</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minutes               </a:t>
            </a:r>
            <a:r>
              <a:rPr b="1" lang="en-US" sz="1700" spc="-1" strike="noStrike">
                <a:solidFill>
                  <a:srgbClr val="000000"/>
                </a:solidFill>
                <a:latin typeface="Arial"/>
              </a:rPr>
              <a:t>Concept Talk and Oral Vocabulary</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exampl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sten Up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ord Work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ependent Read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acher guided station (phonemic awareness/phonics/decodable sto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Your choice or Reader’s and Writer’s Noteboo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Phonemic Awareness and Phonics</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Handwriting and High Frequency Words</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 minutes             </a:t>
            </a:r>
            <a:r>
              <a:rPr b="1" lang="en-US" sz="1700" spc="-1" strike="noStrike">
                <a:solidFill>
                  <a:srgbClr val="000000"/>
                </a:solidFill>
                <a:latin typeface="Arial"/>
              </a:rPr>
              <a:t>Listening Comprehension, BIG book 1</a:t>
            </a:r>
            <a:r>
              <a:rPr b="1" lang="en-US" sz="1700" spc="-1" strike="noStrike" baseline="30000">
                <a:solidFill>
                  <a:srgbClr val="000000"/>
                </a:solidFill>
                <a:latin typeface="Arial"/>
              </a:rPr>
              <a:t>st</a:t>
            </a:r>
            <a:r>
              <a:rPr b="1" lang="en-US" sz="1700" spc="-1" strike="noStrike">
                <a:solidFill>
                  <a:srgbClr val="000000"/>
                </a:solidFill>
                <a:latin typeface="Arial"/>
              </a:rPr>
              <a:t> read (retell and think and talk)</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 minutes            Conventions and writ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3" name="PlaceHolder 2"/>
          <p:cNvSpPr>
            <a:spLocks noGrp="1"/>
          </p:cNvSpPr>
          <p:nvPr>
            <p:ph/>
          </p:nvPr>
        </p:nvSpPr>
        <p:spPr>
          <a:xfrm>
            <a:off x="145800" y="306000"/>
            <a:ext cx="9799560" cy="6907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Arial Black&quot;"/>
              </a:rPr>
              <a:t>Day 3:</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utes               </a:t>
            </a:r>
            <a:r>
              <a:rPr b="1" lang="en-US" sz="2400" spc="-1" strike="noStrike">
                <a:solidFill>
                  <a:srgbClr val="000000"/>
                </a:solidFill>
                <a:latin typeface="Arial"/>
              </a:rPr>
              <a:t>Concept Talk and Oral Vocabular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Let’s Write St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Words You Know St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Independent Read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Teacher guided station (phonemic awareness/phonics/decodable stori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quot;Times New Roman&quot;"/>
              </a:rPr>
              <a:t>          </a:t>
            </a:r>
            <a:r>
              <a:rPr b="0" lang="en-US" sz="2400" spc="-1" strike="noStrike">
                <a:solidFill>
                  <a:srgbClr val="000000"/>
                </a:solidFill>
                <a:latin typeface="Arial"/>
              </a:rPr>
              <a:t>Your choice or Reader’s and Writer’s Notebook</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Phonemic Awareness and Phon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same as abo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Comprehens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Practice Stations (same as abov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nutes             </a:t>
            </a:r>
            <a:r>
              <a:rPr b="1" lang="en-US" sz="2400" spc="-1" strike="noStrike">
                <a:solidFill>
                  <a:srgbClr val="000000"/>
                </a:solidFill>
                <a:latin typeface="Arial"/>
              </a:rPr>
              <a:t>BIG book 2</a:t>
            </a:r>
            <a:r>
              <a:rPr b="1" lang="en-US" sz="2400" spc="-1" strike="noStrike" baseline="30000">
                <a:solidFill>
                  <a:srgbClr val="000000"/>
                </a:solidFill>
                <a:latin typeface="Arial"/>
              </a:rPr>
              <a:t>nd</a:t>
            </a:r>
            <a:r>
              <a:rPr b="1" lang="en-US" sz="2400" spc="-1" strike="noStrike">
                <a:solidFill>
                  <a:srgbClr val="000000"/>
                </a:solidFill>
                <a:latin typeface="Arial"/>
              </a:rPr>
              <a:t> rea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 minutes -       Conventions and Writing (not in 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5" name="PlaceHolder 2"/>
          <p:cNvSpPr>
            <a:spLocks noGrp="1"/>
          </p:cNvSpPr>
          <p:nvPr>
            <p:ph/>
          </p:nvPr>
        </p:nvSpPr>
        <p:spPr>
          <a:xfrm>
            <a:off x="43920" y="304560"/>
            <a:ext cx="9682200" cy="6799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quot;Arial Black&quot;"/>
              </a:rPr>
              <a:t>Day 4:</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minutes               </a:t>
            </a:r>
            <a:r>
              <a:rPr b="1" lang="en-US" sz="1700" spc="-1" strike="noStrike">
                <a:solidFill>
                  <a:srgbClr val="000000"/>
                </a:solidFill>
                <a:latin typeface="Arial"/>
              </a:rPr>
              <a:t>Concept Talk and Oral Vocabulary</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exampl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t’s Write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ords You Know St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ependent Read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acher guided station (phonemic awareness/phonics/decodable sto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Your choice or Reader’s and Writer’s Noteboo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5 minutes             </a:t>
            </a:r>
            <a:r>
              <a:rPr b="1" lang="en-US" sz="1700" spc="-1" strike="noStrike">
                <a:solidFill>
                  <a:srgbClr val="000000"/>
                </a:solidFill>
                <a:latin typeface="Arial"/>
              </a:rPr>
              <a:t>Phonemic Awareness, Letter Recognition, and Blending</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Comprehension</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Practice Stations (same as above)</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 minutes             </a:t>
            </a:r>
            <a:r>
              <a:rPr b="1" lang="en-US" sz="1700" spc="-1" strike="noStrike">
                <a:solidFill>
                  <a:srgbClr val="000000"/>
                </a:solidFill>
                <a:latin typeface="Arial"/>
              </a:rPr>
              <a:t>BIG book 3</a:t>
            </a:r>
            <a:r>
              <a:rPr b="1" lang="en-US" sz="1700" spc="-1" strike="noStrike" baseline="30000">
                <a:solidFill>
                  <a:srgbClr val="000000"/>
                </a:solidFill>
                <a:latin typeface="Arial"/>
              </a:rPr>
              <a:t>rd</a:t>
            </a:r>
            <a:r>
              <a:rPr b="1" lang="en-US" sz="1700" spc="-1" strike="noStrike">
                <a:solidFill>
                  <a:srgbClr val="000000"/>
                </a:solidFill>
                <a:latin typeface="Arial"/>
              </a:rPr>
              <a:t> read</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 minutes     Conventions and Writing </a:t>
            </a:r>
            <a:r>
              <a:rPr b="1" lang="en-US" sz="1700" spc="-1" strike="noStrike">
                <a:solidFill>
                  <a:srgbClr val="000000"/>
                </a:solidFill>
                <a:latin typeface="Arial"/>
              </a:rPr>
              <a:t> </a:t>
            </a:r>
            <a:endParaRPr b="0" lang="en-US" sz="1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7" name="PlaceHolder 2"/>
          <p:cNvSpPr>
            <a:spLocks noGrp="1"/>
          </p:cNvSpPr>
          <p:nvPr>
            <p:ph/>
          </p:nvPr>
        </p:nvSpPr>
        <p:spPr>
          <a:xfrm>
            <a:off x="43920" y="101520"/>
            <a:ext cx="9758520" cy="69818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Arial Black&quot;"/>
              </a:rPr>
              <a:t>Day 5:</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inutes               </a:t>
            </a:r>
            <a:r>
              <a:rPr b="1" lang="en-US" sz="2400" spc="-1" strike="noStrike">
                <a:solidFill>
                  <a:srgbClr val="000000"/>
                </a:solidFill>
                <a:latin typeface="Arial"/>
              </a:rPr>
              <a:t>Concept Talk and Oral Vocabular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Independent Practice Stations while teacher works with students in small groups for assess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a:t>
            </a:r>
            <a:r>
              <a:rPr b="1" lang="en-US" sz="2400" spc="-1" strike="noStrike">
                <a:solidFill>
                  <a:srgbClr val="000000"/>
                </a:solidFill>
                <a:latin typeface="Arial"/>
              </a:rPr>
              <a:t>Phonemic Awareness and Phon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minutes             Independent Practice Stations while teacher works with students in small groups for assess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40 minutes   Conventions and writ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otes...</a:t>
            </a:r>
            <a:endParaRPr b="0" lang="en-US" sz="4300" spc="-1" strike="noStrike">
              <a:solidFill>
                <a:srgbClr val="000000"/>
              </a:solidFill>
              <a:latin typeface="Times New Roman"/>
            </a:endParaRPr>
          </a:p>
        </p:txBody>
      </p:sp>
      <p:sp>
        <p:nvSpPr>
          <p:cNvPr id="79" name="PlaceHolder 2"/>
          <p:cNvSpPr>
            <a:spLocks noGrp="1"/>
          </p:cNvSpPr>
          <p:nvPr>
            <p:ph/>
          </p:nvPr>
        </p:nvSpPr>
        <p:spPr>
          <a:xfrm>
            <a:off x="146160" y="1523880"/>
            <a:ext cx="9664560" cy="5477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best prevention to being overwhelmed by the number of students needing additional support is an intentional, systematic, and explicit core reading progra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MiBLSi</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ime and instruction are held constant, learning outcomes vary. When time and instruction are variable, learning is held constant."  (Buffum, Mattos, &amp; Weber, 200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4160" y="311040"/>
            <a:ext cx="9671040" cy="1292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ords of Wisdom from Second Year Users</a:t>
            </a:r>
            <a:endParaRPr b="0" lang="en-US" sz="4300" spc="-1" strike="noStrike">
              <a:solidFill>
                <a:srgbClr val="000000"/>
              </a:solidFill>
              <a:latin typeface="Times New Roman"/>
            </a:endParaRPr>
          </a:p>
        </p:txBody>
      </p:sp>
      <p:sp>
        <p:nvSpPr>
          <p:cNvPr id="45" name="PlaceHolder 2"/>
          <p:cNvSpPr>
            <a:spLocks noGrp="1"/>
          </p:cNvSpPr>
          <p:nvPr>
            <p:ph/>
          </p:nvPr>
        </p:nvSpPr>
        <p:spPr>
          <a:xfrm>
            <a:off x="254160" y="1834920"/>
            <a:ext cx="9671040" cy="5492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cus on the "targets" and just keep going.  </a:t>
            </a:r>
            <a:br>
              <a:rPr sz="2700"/>
            </a:br>
            <a:br>
              <a:rPr sz="2700"/>
            </a:br>
            <a:r>
              <a:rPr b="1" lang="en-US" sz="2700" spc="-1" strike="noStrike">
                <a:solidFill>
                  <a:srgbClr val="000000"/>
                </a:solidFill>
                <a:latin typeface="Arial"/>
              </a:rPr>
              <a:t>We were very overwhelmed in the beginning, but keep pushing through because there is a definite pattern to the lessons and days.  Once you understand the pattern, it goes a lot smoother.</a:t>
            </a:r>
            <a:br>
              <a:rPr sz="2700"/>
            </a:br>
            <a:br>
              <a:rPr sz="2700"/>
            </a:br>
            <a:r>
              <a:rPr b="1" lang="en-US" sz="2700" spc="-1" strike="noStrike">
                <a:solidFill>
                  <a:srgbClr val="000000"/>
                </a:solidFill>
                <a:latin typeface="Arial"/>
              </a:rPr>
              <a:t>There is a lot of spiraling of lessons/topics/targets.  We worried that we weren't teaching "deep" enough, but found that EVERYTHING comes back around again.  You might not dig deep the first time, but you will come back to it over and over again.</a:t>
            </a:r>
            <a:br>
              <a:rPr sz="2700"/>
            </a:b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7" name="PlaceHolder 2"/>
          <p:cNvSpPr>
            <a:spLocks noGrp="1"/>
          </p:cNvSpPr>
          <p:nvPr>
            <p:ph/>
          </p:nvPr>
        </p:nvSpPr>
        <p:spPr>
          <a:xfrm>
            <a:off x="145800" y="814320"/>
            <a:ext cx="9799560" cy="666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Take LOTS of movement break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It has really helped to collaborate across the grade level.  On any given day we can discuss the concerns/surprises/ah-ha's that occurred with the lessons and we are all on the same lesson.</a:t>
            </a:r>
            <a:br>
              <a:rPr sz="2900"/>
            </a:br>
            <a:br>
              <a:rPr sz="2900"/>
            </a:br>
            <a:r>
              <a:rPr b="1" lang="en-US" sz="2900" spc="-1" strike="noStrike">
                <a:solidFill>
                  <a:srgbClr val="000000"/>
                </a:solidFill>
                <a:latin typeface="Tahoma"/>
              </a:rPr>
              <a:t>I KNOW that I am covering all standards with fidelity.</a:t>
            </a:r>
            <a:br>
              <a:rPr sz="2900"/>
            </a:br>
            <a:br>
              <a:rPr sz="2900"/>
            </a:br>
            <a:r>
              <a:rPr b="1" lang="en-US" sz="2900" spc="-1" strike="noStrike">
                <a:solidFill>
                  <a:srgbClr val="000000"/>
                </a:solidFill>
                <a:latin typeface="Tahoma"/>
              </a:rPr>
              <a:t>Most of the songs and stories are enjoyable...have fun with them!</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m Haslett 2-5 Principal</a:t>
            </a:r>
            <a:endParaRPr b="0" lang="en-US" sz="4300" spc="-1" strike="noStrike">
              <a:solidFill>
                <a:srgbClr val="000000"/>
              </a:solidFill>
              <a:latin typeface="Times New Roman"/>
            </a:endParaRPr>
          </a:p>
        </p:txBody>
      </p:sp>
      <p:sp>
        <p:nvSpPr>
          <p:cNvPr id="49" name="PlaceHolder 2"/>
          <p:cNvSpPr>
            <a:spLocks noGrp="1"/>
          </p:cNvSpPr>
          <p:nvPr>
            <p:ph/>
          </p:nvPr>
        </p:nvSpPr>
        <p:spPr>
          <a:xfrm>
            <a:off x="247320" y="1117080"/>
            <a:ext cx="4708440" cy="6070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struction looks different at different grade levels.  Teachers figured out what worked for them and made it their own. While still hitting target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ll in all available adults to do a small group.</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els?  On level and above students did novels during small group tim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ience and Social Studies?  Scores didn’t dip.  Maybe because they are better readers?  Used concept leveled readers in R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the flexible pacing- 3, 4, and 5 days. You will NOT finish the program.</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ade level (for the second year) did their own pacing guid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ek 6- use it for review if you need it- if not, MOVE ON!  Maybe only 2 days of week 6.  Keep going.  Maybe Day 1 is a Friday….</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0" name="PlaceHolder 3"/>
          <p:cNvSpPr>
            <a:spLocks noGrp="1"/>
          </p:cNvSpPr>
          <p:nvPr>
            <p:ph/>
          </p:nvPr>
        </p:nvSpPr>
        <p:spPr>
          <a:xfrm>
            <a:off x="4990680" y="983880"/>
            <a:ext cx="4762440" cy="6149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ments:</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class activities for the weekly tests (as practice)</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aren’t connected to unit?   The test is a test about reading, not the concept question of the unit. Skills come back, might just not be in the unit.</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first year of use, DIBELS showed 75-85% and stuck over the summer!</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program and 90 min. made the difference, with 30 min. of intervention.</a:t>
            </a:r>
            <a:endParaRPr b="0" lang="en-US" sz="1800" spc="-1" strike="noStrike">
              <a:solidFill>
                <a:srgbClr val="000000"/>
              </a:solidFill>
              <a:latin typeface="Times New Roman"/>
            </a:endParaRPr>
          </a:p>
          <a:p>
            <a:pPr lvl="1" marL="457200" indent="-342720">
              <a:lnSpc>
                <a:spcPct val="95000"/>
              </a:lnSpc>
              <a:buClr>
                <a:srgbClr val="0000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
              </a:rPr>
              <a:t> </a:t>
            </a:r>
            <a:r>
              <a:rPr b="0" lang="en-US" sz="1900" spc="-1" strike="noStrike">
                <a:solidFill>
                  <a:srgbClr val="000000"/>
                </a:solidFill>
                <a:latin typeface=""/>
              </a:rPr>
              <a:t>Data meetings?  Use the sorting quadrants from MiBLIsi. Have teachers build quadrants themselves.  Teaches teachers how to read the data and group accordingly</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ave units 1, 2, 3, 4 tests.  Unit 5 done in June, gave end of year test even though not finished.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2" name="PlaceHolder 2"/>
          <p:cNvSpPr>
            <a:spLocks noGrp="1"/>
          </p:cNvSpPr>
          <p:nvPr>
            <p:ph/>
          </p:nvPr>
        </p:nvSpPr>
        <p:spPr>
          <a:xfrm>
            <a:off x="74520" y="1085760"/>
            <a:ext cx="4508640" cy="605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me up-front is needed to teach students how to do the centers and routines of rotating through and into small groups.  This is KEY to management of stations and ability to fit in small groups</a:t>
            </a:r>
            <a:r>
              <a:rPr b="0" lang="en-US" sz="2700" spc="-1" strike="noStrike">
                <a:solidFill>
                  <a:srgbClr val="0000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felt less pressure around reading.  Understand what fluency is. Teaching them the concepts of reading that teachers understand- the Big Five.  Workshop model may miss this</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3" name="PlaceHolder 3"/>
          <p:cNvSpPr>
            <a:spLocks noGrp="1"/>
          </p:cNvSpPr>
          <p:nvPr>
            <p:ph/>
          </p:nvPr>
        </p:nvSpPr>
        <p:spPr>
          <a:xfrm>
            <a:off x="5225760" y="1015560"/>
            <a:ext cx="4707000" cy="6208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age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nged up Book Room- re-organized by Reading Street connections for topics. Took all Concept Questions in a list and organized books by what fit.  Not organized by level, just Concept Question, all differentiated levels there. This fit with stations.</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5" name="PlaceHolder 2"/>
          <p:cNvSpPr>
            <a:spLocks noGrp="1"/>
          </p:cNvSpPr>
          <p:nvPr>
            <p:ph/>
          </p:nvPr>
        </p:nvSpPr>
        <p:spPr>
          <a:xfrm>
            <a:off x="43920" y="1017360"/>
            <a:ext cx="9896760" cy="611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ake some time every couple of months to look through all the materials.  There are a lot of "things" to use to implement Reading Street.  It is hard to know what it all is and used for until you are really using it.  I "discovered" helpful materials half-way through the ye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quot;Berlin Sans FB&quot;"/>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ahoma"/>
              </a:rPr>
              <a:t>Focus on the targets and know you won't be perfect. ;-)</a:t>
            </a:r>
            <a:br>
              <a:rPr sz="2700"/>
            </a:br>
            <a:br>
              <a:rPr sz="2700"/>
            </a:br>
            <a:r>
              <a:rPr b="1" lang="en-US" sz="2700" spc="-1" strike="noStrike">
                <a:solidFill>
                  <a:srgbClr val="000000"/>
                </a:solidFill>
                <a:latin typeface="Tahoma"/>
              </a:rPr>
              <a:t>I followed the script very closely at first.  When I was more comfortable with the materials and topics I didn't follow it quite as closely.  This year, I am even more comfortable and feel less "tied" to the manual.</a:t>
            </a:r>
            <a:br>
              <a:rPr sz="2700"/>
            </a:br>
            <a:r>
              <a:rPr b="1" lang="en-US" sz="2700" spc="-1" strike="noStrike">
                <a:solidFill>
                  <a:srgbClr val="000000"/>
                </a:solidFill>
                <a:latin typeface="Tahoma"/>
              </a:rPr>
              <a:t>                                -K Teac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145800" y="812520"/>
            <a:ext cx="9731160" cy="6458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e only have to teach the non-negotiables at our school.  Stick to this list only and it helps make the program so much more manageable. I also make sure if a story has a plethora of comprehension questions, I stick with the ones with the bulls-eye/target.  This way I'm sticking with the questions that they are going to be tested on.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member that with 5 days, many of the questions, strategies, and concepts recycle, so move at a quick pace.  You don't need to teach a phonics for 20 words.  Teach it for a few and move 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9" name="PlaceHolder 2"/>
          <p:cNvSpPr>
            <a:spLocks noGrp="1"/>
          </p:cNvSpPr>
          <p:nvPr>
            <p:ph/>
          </p:nvPr>
        </p:nvSpPr>
        <p:spPr>
          <a:xfrm>
            <a:off x="145800" y="1017720"/>
            <a:ext cx="9698040" cy="652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Last year was nice because we only had to teach the reading/conventions/spelling portions of Reading Street without having to worry about writing simultaneously.  It allowed us to get to know the program without having to deal with so much new content at onc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I personally choose to put each day onto a Smart board lesson.  By typing up the lesson it forced me to become familiar with the routines of each day of the week, while allowing for a visual cushion that was interactiv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                    </a:t>
            </a:r>
            <a:r>
              <a:rPr b="1" lang="en-US" sz="2900" spc="-1" strike="noStrike">
                <a:solidFill>
                  <a:srgbClr val="000000"/>
                </a:solidFill>
                <a:latin typeface="Tahoma"/>
              </a:rPr>
              <a:t>-3rd Grade Teacher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61" name="PlaceHolder 2"/>
          <p:cNvSpPr>
            <a:spLocks noGrp="1"/>
          </p:cNvSpPr>
          <p:nvPr>
            <p:ph/>
          </p:nvPr>
        </p:nvSpPr>
        <p:spPr>
          <a:xfrm>
            <a:off x="90360" y="858600"/>
            <a:ext cx="9660240" cy="6281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re's a lot of content in Reading Street and you don't have to teach it all.  Once we figured out how to pick and choose the most important components, it got much better.  Hone in on the pieces that have the "target" beside it.  Many of our teachers designed PPT templates that they could use each week.  It was time consuming to make them, but they found that having that visual for themselves (as well as students) helped the components flow, since the activities sometimes felt more disconnected than our old way of teaching literacy.  It DOES get better.</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2700" spc="-1" strike="noStrike">
                <a:solidFill>
                  <a:srgbClr val="000000"/>
                </a:solidFill>
                <a:latin typeface="Tahoma"/>
              </a:rPr>
              <a:t>-Building Principa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elissa Yip</cp:lastModifiedBy>
  <dcterms:modified xsi:type="dcterms:W3CDTF">2011-10-05T23:49:00Z</dcterms:modified>
  <cp:revision>2</cp:revision>
  <dc:subject/>
  <dc:title>PowerPoint Presentation</dc:title>
</cp:coreProperties>
</file>